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9BD7-C2F2-48F1-B133-CE86976F2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AF83-6AE5-4A71-98B6-BA9FAC849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D499-E778-4F59-B41C-480701568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E41E-0D0C-4C68-A1A8-6A217AA70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C992-F664-4D0C-8BEC-F5CBA6077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542E-78E2-46FF-80C9-22DA3CB4C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DFD-80B1-4BC9-888D-E99A03B2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0A3-ABBF-4D52-B384-9B54FCB0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8EB-2552-42F9-80FE-36286993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49E-68E1-462E-873E-A47181AB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5E4C-2BEA-4845-8EE1-4F3D2874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00EC-9923-4E4A-BC94-A6C36E7E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6D2D-D5D9-4EB5-A12E-591C5409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F4BF-FDB6-417A-AB26-87EDE79E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8396-3B5A-4B30-BAA4-9DA464C6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CAD-923F-4D32-88E3-A393E65B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C886-17D5-4FE5-989E-65B5423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47E-532A-4C4F-82E1-BD0F90DF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C12C-6138-4597-849B-A705DFD7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FCEB-CF1F-4EC6-93C9-FFE1603B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9CAA-E84C-489C-B0CF-280DB29F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AAE1-E1C5-4738-AB4D-9A0E8589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942F-CD2C-4A53-A5D8-A726BA07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2A9-33BF-4AFC-8276-08BD4894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32C-4C33-4CBA-881D-A3E74E80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159-69EA-4597-9078-64730869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3BE-892C-4E38-9558-9A4118FC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954-542F-4889-A9B4-A7A250A2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8E1-F147-4693-8049-294035CE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957-C285-402F-94F0-6C69729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8ED0-C4F7-469A-AC62-16B8423C4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287AE0A-8100-4C8A-B83C-BD3D41CCA5E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827C897-5A3A-481C-83B7-11CBB65ED4E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DB2F-3C06-4C9B-A5AE-140C20554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Coordenação Ge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720" y="130320"/>
            <a:ext cx="85899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de coordenação técnica e científica internacional para coordenar as medidas de controlo da epidemia que será responsável pela organização das actividades diárias das equipas n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20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xemplo de um EOC/IMC de EV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92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365040" y="981000"/>
            <a:ext cx="7907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peracionalização do EOC/I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73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dentificar e nomear pessoal para diferentes áreas 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riar o espaço para o E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senvolver termos de referência e actividades prioritárias para orientar o trabalho de cada área temática (Grupo de Acção do Ébola: ETF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locar pessoal, desenvolver listas de materiais e necessidades financeiras, assim como um plano operacional com objectivos definidos (grupos de áreas temátic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ver e aprovar os planos operacionais (ETF) e os recursos necessá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mear parceiros técnicos para as várias áreas temáticas com base nas suas competê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7772400" cy="136224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MISSÃO DE COORDENAÇÃO LOCAL (DISTR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0160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tura da Comissão de Coordenação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CCL está dividida em subcomissões que reflectem os princípios básicos de combate à EVD, nomead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igilância e labor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estão de casos e controlo de infec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ção social 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psicos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F:\Ebola July 2014 documents_YZ\SLE EBOLA RESPONSE PHOTO LIBRARY\12 WHO Mobile lab equipment for Kailahun ebola outbreak_WHO Saffea Gborie.jpg"/>
          <p:cNvPicPr/>
          <p:nvPr/>
        </p:nvPicPr>
        <p:blipFill>
          <a:blip r:embed="rId1"/>
          <a:stretch/>
        </p:blipFill>
        <p:spPr>
          <a:xfrm>
            <a:off x="4648320" y="2276640"/>
            <a:ext cx="43974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8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Composi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sidente do Conselh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o-assistente local / Equipa de Gestão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elheiros, Técnicos Distr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supr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Depart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Agências d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resentante das Organizações da Sociedade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íderes Religi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ções Internacionais, Nacionais e Parceiros Locais (OMS, CDC, MSF, ONG, Organizações com base na Comunidad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578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Pa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 todos os aspectos de coordenação da resposta no terreno de acordo com as directivas d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voca reuniões diárias para coordenar a resposta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 e aloca recursos para a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duz relatórios de situação diários e comunica com 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aliza quaisquer outras funções atribuídas pel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PT" sz="4400" spc="-1" strike="noStrike">
                <a:solidFill>
                  <a:srgbClr val="ffffff"/>
                </a:solidFill>
                <a:latin typeface="Arial"/>
              </a:rPr>
              <a:t>Obrigad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Os Ministros da Saúde e outros líderes sanitários devem assumir um papel de liderança proeminente na coordenação e implementação das medidas de resposta de emergência ao Ébola…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laração da Directora-Geral da OMS na Reunião da Comissão de Emergência do RSI relativamente ao Surto do Ébola na África Ocidental de 2014. 8 de Agosto de 2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44640"/>
            <a:ext cx="8686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final da sessão, os participantes devem dominar a coordenação da preparação e resposta à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 (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26828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s Intermé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missão de coordenação sobre 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sumir as actividades da comissão de coordenação a nível distrital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ornecer um exemplo de um EOC/I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664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multissecto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nacional de coordenaçã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xemplo de EOC/I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de Coordenação Local (Distrital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 e taref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: Estratégia multidiscipl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49440" y="1114560"/>
            <a:ext cx="66945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trutura da Comissão Nacional de Coordenação (ET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ontent Placeholder 4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2425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19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Nacional de Coordenação: Composiçã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1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apel da Comissão Nacional de Coorden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papel da comissão é assegurar a coordenação geral das operações, actividades de prevenção e controlo de epidemias e mobilização de recurso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do Ébol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9:34Z</dcterms:modified>
  <cp:revision>234</cp:revision>
  <dc:subject/>
  <dc:title>DPC Training and Technical Update</dc:title>
</cp:coreProperties>
</file>